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049-64D0-42DC-A86C-69BBA036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8DA-BC58-4F91-A2E5-00B2937C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43D-8096-4E80-9264-0BBC0F65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2B0-A23E-4102-A5B4-915F15B2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765ED-23DA-45C3-BDE4-1D1BACDE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BD769-29BB-4859-A376-52C47C9D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C5295-03C0-4AB8-A5CB-4770FA3B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B6E3-306A-4242-9B5C-3AB4C512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7123A-EDA2-4B5D-BFE0-EEE80915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BF2C0-5966-4E70-8348-C5E5A1AE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D2CB1-2B0D-4B6A-8F1C-E1AF841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24C-D26D-4BAD-8AE0-C752160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68EB4-01A2-42F1-8279-94CCE0B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E550-5E42-4FBE-ACD6-9F9C335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5E805-9EE6-4025-841C-7FFD4038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CA578-1BA6-4F3A-8849-D9215F9D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C2E1A-F5D1-4891-B832-AB2CD91B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E79-F482-4966-81B4-BFE5CE53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1F1-B5AB-4D0D-82C8-E3B5872E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CCC-5079-46FA-874E-19BC8F5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70C-0C2A-4F7B-91AB-BFD3C6BB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771-C2C7-4710-B4CF-9AE387C2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CD0-C82D-4992-9DF3-06633F6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081-06DB-4FC6-BB47-05C979A7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DBBB-ADC0-4872-B4F0-321950B9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8815-69A8-4196-8E14-8850C90B02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2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amous Scientists and their contribu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bert Hooke — English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ribution to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iscovered 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s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1665 while looking at c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alled them 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s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y were organized empty spaces that looked like honeycom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7" descr="Robert_Hooke_portrait"/>
          <p:cNvPicPr/>
          <p:nvPr/>
        </p:nvPicPr>
        <p:blipFill>
          <a:blip r:embed="rId1"/>
          <a:stretch/>
        </p:blipFill>
        <p:spPr>
          <a:xfrm>
            <a:off x="4960800" y="1905120"/>
            <a:ext cx="341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bert Hooke</a:t>
            </a:r>
            <a:r>
              <a:rPr b="0" lang="ja-JP" sz="4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 Discove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living things come from other living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roved the theory of spontaneous generation which states that some living organisms come from non-living subst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8" descr="hookecork"/>
          <p:cNvPicPr/>
          <p:nvPr/>
        </p:nvPicPr>
        <p:blipFill>
          <a:blip r:embed="rId1"/>
          <a:stretch/>
        </p:blipFill>
        <p:spPr>
          <a:xfrm>
            <a:off x="5024520" y="2057400"/>
            <a:ext cx="3662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rrent Cell Theo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living things are made of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ll is the basic unit of all living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living cells can produce new living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cells"/>
          <p:cNvPicPr/>
          <p:nvPr/>
        </p:nvPicPr>
        <p:blipFill>
          <a:blip r:embed="rId1"/>
          <a:stretch/>
        </p:blipFill>
        <p:spPr>
          <a:xfrm>
            <a:off x="4648320" y="2106720"/>
            <a:ext cx="4495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Anton Van Leeuwenhoek"/>
          <p:cNvPicPr/>
          <p:nvPr/>
        </p:nvPicPr>
        <p:blipFill>
          <a:blip r:embed="rId1"/>
          <a:stretch/>
        </p:blipFill>
        <p:spPr>
          <a:xfrm>
            <a:off x="4800600" y="1371600"/>
            <a:ext cx="2597040" cy="3124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ompound_microscope"/>
          <p:cNvPicPr/>
          <p:nvPr/>
        </p:nvPicPr>
        <p:blipFill>
          <a:blip r:embed="rId2"/>
          <a:stretch/>
        </p:blipFill>
        <p:spPr>
          <a:xfrm>
            <a:off x="7391520" y="838080"/>
            <a:ext cx="1600200" cy="364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on Van Leeuwenhoe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496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 Van Leeuwenhoek is considered the father of microscopes because of the advances he made in microscope design and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as an apprentice in a dry goods store in Holland where he used magnifying glasses to count the threads in cl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952880" y="46483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lenses led to the building of Anton</a:t>
            </a:r>
            <a:r>
              <a:rPr b="0" lang="ja-JP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microscopes considered the first practical microscop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Aerobic vs. Anaerob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Aerob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eds oxygen to l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Anaerob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ble to live without oxy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KARYO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S EUKARYO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PROKARYOTI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INGLE CELLED ORGANIS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ELLS THAT DO NOT CONTA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TIC MATERIAL IN A 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EX: BACTE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EUKARYOTI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ELLS THAT CONTAIN GENE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 WITHIN A 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ANY CELLED ORGANINS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EX: ANIMAL and PLANT CE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://www.nslc.wustl.edu/courses/Bio2960/labs/04Microscopy/allcell.jpg"/>
          <p:cNvPicPr/>
          <p:nvPr/>
        </p:nvPicPr>
        <p:blipFill>
          <a:blip r:embed="rId1"/>
          <a:stretch/>
        </p:blipFill>
        <p:spPr>
          <a:xfrm>
            <a:off x="457200" y="990720"/>
            <a:ext cx="83026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1:36:01Z</dcterms:created>
  <dc:creator>siobhan.mcneill</dc:creator>
  <dc:description/>
  <dc:language>en-US</dc:language>
  <cp:lastModifiedBy>sbms</cp:lastModifiedBy>
  <dcterms:modified xsi:type="dcterms:W3CDTF">2011-08-31T12:40:27Z</dcterms:modified>
  <cp:revision>17</cp:revision>
  <dc:subject/>
  <dc:title>Cell Theory</dc:title>
</cp:coreProperties>
</file>